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4F3-B465-4B02-A2DA-97551ADC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9CE-1424-4E52-9C50-9A28C442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EC9-85B4-4D97-BF89-090B40E9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C12-D8EA-455D-B395-7E02207B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2AA-A656-4742-BFA4-BB817B3F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F00-755B-4A50-B9FC-B72CCC27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C70-2935-46B8-995E-615066B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538-17EB-439C-BB3F-4E81C3BE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A7B7-FD79-42C0-94D7-76FB89E0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83B-D06E-40D5-A851-493580D0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DB0-7481-410E-A40D-651797A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B19-5EE9-4B9B-9F63-1EC2232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1924-6A5E-4704-B33B-D32BA2F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433-A9B0-422A-A2EC-B4DA7E2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55AA-FD91-4EC9-A098-CE0942DB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A734-8C21-48BB-93E0-6B2BEEE0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2D2-9B8C-41CE-90F5-38CA10D0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F09-F971-437A-A499-040E6D43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2EB-336C-49A3-9476-A39A003B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16D-BE0E-47DF-B71F-1E9BF0D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263-6C50-409B-AA86-50E775F6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1D1-987A-4AE2-A22E-66EA5E1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83C-570F-4685-AA45-22650C6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45E-0152-4542-8C53-9CCF918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AC9-E94F-4175-9BFA-B00D7969B48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20D6-9426-46FC-AE9D-1758DF9B41B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jpeg"/><Relationship Id="rId7" Type="http://schemas.openxmlformats.org/officeDocument/2006/relationships/hyperlink" Target="http://en.wikipedia.org/wiki/Image:Turkey-pozKarta.png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angliacampus.com/public/sec/english/julius/a4s3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2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tribute Act IV guided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d IV.i – IV.i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gin Marlon Brando (1954) DV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D01-7CF6-48C7-99BE-8817430D5976}" type="slidenum">
              <a:t>1</a:t>
            </a:fld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 IV Conflic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1752480"/>
          <a:ext cx="7772400" cy="4495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flic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One viewpoin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nother viewpoin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assius accuses Brutus of having wronged him by ignoring his requests and publicly condemning Pella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ntony &amp; Octavius argue over whether or not Lepidus is fit to be one of the three rulers of Rome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rutus claims that Cassius has a reputation for taking bribes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rutus and Cassius discuss whether or not they should march to Phillipi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990720" y="3049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Copy onto back of Act IV guided not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D9C-48B1-46EB-A289-E7AEDE2D3ED9}" type="slidenum">
              <a:t>2</a:t>
            </a:fld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IV.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ve you ever written an “I hate you” not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ou CAN’T have a hit list, but have you ever made a list of your enemies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e you related to people who have numerous enemie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IV.i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938160" y="2133720"/>
            <a:ext cx="33051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E86-C3BE-404F-9212-54CE01ADB4B5}" type="slidenum">
              <a:t>3</a:t>
            </a:fld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IV.i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ve you ever confronted a friend (or family member)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at was the confrontation about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at were your worries before, during, and after the confrontatio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IV.ii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5410080" y="2133720"/>
            <a:ext cx="2959200" cy="2324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Sardis (Turkey 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5029200"/>
            <a:ext cx="3429000" cy="1371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6483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ardis, Turk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SMARTPenAnnotation0"/>
          <p:cNvSpPr/>
          <p:nvPr/>
        </p:nvSpPr>
        <p:spPr>
          <a:xfrm>
            <a:off x="5126040" y="58356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5" y="3"/>
                </a:moveTo>
                <a:lnTo>
                  <a:pt x="5" y="6"/>
                </a:lnTo>
                <a:lnTo>
                  <a:pt x="5" y="7"/>
                </a:lnTo>
                <a:lnTo>
                  <a:pt x="4" y="7"/>
                </a:lnTo>
                <a:lnTo>
                  <a:pt x="2" y="8"/>
                </a:lnTo>
                <a:lnTo>
                  <a:pt x="2" y="8"/>
                </a:lnTo>
                <a:lnTo>
                  <a:pt x="1" y="10"/>
                </a:lnTo>
                <a:lnTo>
                  <a:pt x="1" y="11"/>
                </a:lnTo>
                <a:lnTo>
                  <a:pt x="1" y="13"/>
                </a:lnTo>
                <a:lnTo>
                  <a:pt x="2" y="16"/>
                </a:lnTo>
                <a:lnTo>
                  <a:pt x="5" y="23"/>
                </a:lnTo>
                <a:lnTo>
                  <a:pt x="6" y="23"/>
                </a:lnTo>
                <a:lnTo>
                  <a:pt x="7" y="23"/>
                </a:lnTo>
                <a:lnTo>
                  <a:pt x="10" y="20"/>
                </a:lnTo>
                <a:lnTo>
                  <a:pt x="11" y="20"/>
                </a:lnTo>
                <a:lnTo>
                  <a:pt x="12" y="20"/>
                </a:lnTo>
                <a:lnTo>
                  <a:pt x="14" y="20"/>
                </a:lnTo>
                <a:lnTo>
                  <a:pt x="15" y="19"/>
                </a:lnTo>
                <a:lnTo>
                  <a:pt x="15" y="18"/>
                </a:lnTo>
                <a:lnTo>
                  <a:pt x="16" y="17"/>
                </a:lnTo>
                <a:lnTo>
                  <a:pt x="16" y="15"/>
                </a:lnTo>
                <a:lnTo>
                  <a:pt x="16" y="14"/>
                </a:lnTo>
                <a:lnTo>
                  <a:pt x="16" y="12"/>
                </a:lnTo>
                <a:lnTo>
                  <a:pt x="16" y="10"/>
                </a:lnTo>
                <a:lnTo>
                  <a:pt x="17" y="4"/>
                </a:lnTo>
                <a:lnTo>
                  <a:pt x="16" y="3"/>
                </a:lnTo>
                <a:lnTo>
                  <a:pt x="15" y="3"/>
                </a:lnTo>
                <a:lnTo>
                  <a:pt x="12" y="3"/>
                </a:lnTo>
                <a:lnTo>
                  <a:pt x="11" y="3"/>
                </a:lnTo>
                <a:lnTo>
                  <a:pt x="10" y="4"/>
                </a:lnTo>
                <a:lnTo>
                  <a:pt x="6" y="8"/>
                </a:lnTo>
                <a:lnTo>
                  <a:pt x="6" y="9"/>
                </a:lnTo>
                <a:lnTo>
                  <a:pt x="6" y="11"/>
                </a:lnTo>
                <a:lnTo>
                  <a:pt x="6" y="14"/>
                </a:lnTo>
                <a:lnTo>
                  <a:pt x="6" y="16"/>
                </a:lnTo>
                <a:lnTo>
                  <a:pt x="7" y="17"/>
                </a:lnTo>
                <a:lnTo>
                  <a:pt x="8" y="18"/>
                </a:lnTo>
                <a:lnTo>
                  <a:pt x="10" y="19"/>
                </a:lnTo>
                <a:lnTo>
                  <a:pt x="12" y="19"/>
                </a:lnTo>
                <a:lnTo>
                  <a:pt x="16" y="19"/>
                </a:lnTo>
                <a:lnTo>
                  <a:pt x="17" y="19"/>
                </a:lnTo>
                <a:lnTo>
                  <a:pt x="18" y="18"/>
                </a:lnTo>
                <a:lnTo>
                  <a:pt x="19" y="17"/>
                </a:lnTo>
                <a:lnTo>
                  <a:pt x="20" y="15"/>
                </a:lnTo>
                <a:lnTo>
                  <a:pt x="21" y="13"/>
                </a:lnTo>
                <a:lnTo>
                  <a:pt x="21" y="12"/>
                </a:lnTo>
                <a:lnTo>
                  <a:pt x="22" y="10"/>
                </a:lnTo>
                <a:lnTo>
                  <a:pt x="22" y="8"/>
                </a:lnTo>
                <a:lnTo>
                  <a:pt x="22" y="4"/>
                </a:lnTo>
                <a:lnTo>
                  <a:pt x="22" y="3"/>
                </a:lnTo>
                <a:lnTo>
                  <a:pt x="21" y="2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1"/>
                </a:lnTo>
                <a:lnTo>
                  <a:pt x="13" y="2"/>
                </a:lnTo>
                <a:lnTo>
                  <a:pt x="11" y="2"/>
                </a:lnTo>
                <a:lnTo>
                  <a:pt x="6" y="3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1" y="17"/>
                </a:lnTo>
                <a:lnTo>
                  <a:pt x="2" y="18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5" y="22"/>
                </a:lnTo>
                <a:lnTo>
                  <a:pt x="5" y="23"/>
                </a:lnTo>
                <a:lnTo>
                  <a:pt x="7" y="22"/>
                </a:lnTo>
                <a:lnTo>
                  <a:pt x="10" y="20"/>
                </a:lnTo>
                <a:lnTo>
                  <a:pt x="11" y="19"/>
                </a:lnTo>
                <a:lnTo>
                  <a:pt x="16" y="15"/>
                </a:lnTo>
                <a:lnTo>
                  <a:pt x="16" y="14"/>
                </a:lnTo>
                <a:lnTo>
                  <a:pt x="16" y="13"/>
                </a:lnTo>
                <a:lnTo>
                  <a:pt x="16" y="11"/>
                </a:lnTo>
                <a:lnTo>
                  <a:pt x="16" y="10"/>
                </a:lnTo>
                <a:lnTo>
                  <a:pt x="17" y="6"/>
                </a:lnTo>
                <a:lnTo>
                  <a:pt x="16" y="4"/>
                </a:lnTo>
                <a:lnTo>
                  <a:pt x="15" y="3"/>
                </a:lnTo>
                <a:lnTo>
                  <a:pt x="14" y="1"/>
                </a:lnTo>
                <a:lnTo>
                  <a:pt x="13" y="0"/>
                </a:lnTo>
                <a:lnTo>
                  <a:pt x="12" y="0"/>
                </a:lnTo>
                <a:lnTo>
                  <a:pt x="12" y="1"/>
                </a:lnTo>
                <a:lnTo>
                  <a:pt x="11" y="2"/>
                </a:ln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7" y="4"/>
                </a:lnTo>
                <a:lnTo>
                  <a:pt x="6" y="6"/>
                </a:lnTo>
                <a:lnTo>
                  <a:pt x="5" y="7"/>
                </a:lnTo>
                <a:lnTo>
                  <a:pt x="4" y="7"/>
                </a:lnTo>
                <a:lnTo>
                  <a:pt x="3" y="8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D92-337C-4874-8C45-B7A23012362A}" type="slidenum">
              <a:t>4</a:t>
            </a:fld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3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d IV.ii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295-FAB9-47BB-A98F-36EB5D2691E5}" type="slidenum">
              <a:t>5</a:t>
            </a:fld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IV.iii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ew &amp; assess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you have arguments, how do you resolve things and keep being friend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does this link to the action in IV.iii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892600"/>
            <a:ext cx="3809880" cy="25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3AB-65ED-4B28-9303-78CE65623C1B}" type="slidenum">
              <a:t>6</a:t>
            </a:fld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4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ent Goals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Quiz Act I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inue Marlon Brando DV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8D0-FF26-4FAA-8F12-C508642E78E8}" type="slidenum">
              <a:t>7</a:t>
            </a:fld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4 Review &amp; Ass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are some contrasts (differences) between the text we are reading and the movie version we just watched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C32-5598-4584-BD95-2A49001EECC1}" type="slidenum">
              <a:t>8</a:t>
            </a:fld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39:40Z</dcterms:created>
  <dc:creator>edavis</dc:creator>
  <dc:description/>
  <dc:language>en-US</dc:language>
  <cp:lastModifiedBy>edavis</cp:lastModifiedBy>
  <cp:lastPrinted>2008-06-13T19:59:48Z</cp:lastPrinted>
  <dcterms:modified xsi:type="dcterms:W3CDTF">2008-09-17T17:02:34Z</dcterms:modified>
  <cp:revision>331</cp:revision>
  <dc:subject/>
  <dc:title>The Tragedy of Julius Caesar</dc:title>
</cp:coreProperties>
</file>